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176-45A9-437F-8DE8-15D7DCF7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477-9657-4937-B8BB-2FA3CCF0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F2E-46FF-4586-8601-97EBA3F3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EEE-CB8A-42CE-B383-5C743DD7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288-7532-403B-AC88-52E448C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3D4-E374-4184-B636-08301109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315-2611-41AC-A676-55E8E995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675-1384-464A-8ADD-4D856DD7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FF1-ABAC-4817-94B0-B871799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E49-1583-410A-B0C2-EC03E57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EC8-3973-41EE-BDEC-382E18F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B22-4722-4A15-889F-A43D810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D18-D397-4A0B-9351-94FEEC3F4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157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6"/>
          <p:cNvSpPr/>
          <p:nvPr/>
        </p:nvSpPr>
        <p:spPr>
          <a:xfrm>
            <a:off x="762120" y="380880"/>
            <a:ext cx="6705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2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762120" y="202392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the density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measure the density of an irregular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of where density is measured in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10:55Z</dcterms:modified>
  <cp:revision>17</cp:revision>
  <dc:subject>Physics for You Support File</dc:subject>
  <dc:title>Physics for You</dc:title>
</cp:coreProperties>
</file>