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186E-B2F2-451B-9D1D-545A063CD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582A-36F5-4963-94E9-6233CC75C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1208-99AC-46A8-8B41-2818C9C74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7ED9-6BEE-4E0C-AECA-B0FF799CE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895E-7D2E-432D-AC71-F145B72AE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51F2-E288-446B-8BEE-4D13FC692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E82A-A660-4EB5-B198-105CF10FD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BB13-E2D0-4EC7-9D80-2CEA57DC3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CE64-53AD-4769-972C-9A11779A4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3F2B-68C1-4F93-930F-E6D73EEC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4729-0C4E-41D8-B1C4-BDA1E91D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8317-32E8-42A8-9C99-4DCB373E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DDB46-778A-4BF1-96A8-1082FC3DBF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9" descr=""/>
          <p:cNvPicPr/>
          <p:nvPr/>
        </p:nvPicPr>
        <p:blipFill>
          <a:blip r:embed="rId2"/>
          <a:stretch/>
        </p:blipFill>
        <p:spPr>
          <a:xfrm>
            <a:off x="8675640" y="5229360"/>
            <a:ext cx="247680" cy="118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762120" y="533520"/>
            <a:ext cx="47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len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762120" y="1371600"/>
            <a:ext cx="7924680" cy="35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is PowerPoint file contains the Plenary for this chapter in </a:t>
            </a:r>
            <a:br>
              <a:rPr sz="2000"/>
            </a:br>
            <a:r>
              <a:rPr b="0" i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Physics For Yo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of these slides are paired with a corresponding slide in the PowerPoint of the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Learning Objectiv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or this chap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ly a limited amount of colour has been used on these slides,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of course you can customise them in any way you wis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well as using the relevant slide to test your students and to evaluate how well they have understood each section of work,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may also find the slides useful for a quick revision cour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762120" y="5715000"/>
            <a:ext cx="62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apter 12 – D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5219640" y="1557360"/>
            <a:ext cx="361944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... it is less dense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than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... it is more dense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than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... it has a density of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less than 1 g/cm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... it has a density of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more than 1 g/cm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380880" y="3808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pter 12 : Den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80880" y="98100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ick the best explanations.  Some may be used more than once, or not at a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380880" y="1557360"/>
            <a:ext cx="386424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ood floats, because..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hips float higher in </a:t>
            </a:r>
            <a:br>
              <a:rPr sz="2400"/>
            </a:b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e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water, becaus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eel does not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loat, becaus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380880" y="3808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pter 12 : Den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80880" y="98100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ick the best explanations.  Some may be used more than once, or not at a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3059280" y="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Ans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Freeform 5"/>
          <p:cNvSpPr/>
          <p:nvPr/>
        </p:nvSpPr>
        <p:spPr>
          <a:xfrm flipV="1" rot="180000">
            <a:off x="3657240" y="1828440"/>
            <a:ext cx="1600200" cy="76320"/>
          </a:xfrm>
          <a:custGeom>
            <a:avLst/>
            <a:gdLst/>
            <a:ahLst/>
            <a:rect l="l" t="t" r="r" b="b"/>
            <a:pathLst>
              <a:path w="1807" h="1">
                <a:moveTo>
                  <a:pt x="0" y="0"/>
                </a:moveTo>
                <a:cubicBezTo>
                  <a:pt x="301" y="0"/>
                  <a:pt x="1506" y="1"/>
                  <a:pt x="1807" y="1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3657600" y="1981080"/>
            <a:ext cx="1828800" cy="1828800"/>
          </a:xfrm>
          <a:custGeom>
            <a:avLst/>
            <a:gdLst/>
            <a:ahLst/>
            <a:rect l="l" t="t" r="r" b="b"/>
            <a:pathLst>
              <a:path w="1856" h="1079">
                <a:moveTo>
                  <a:pt x="0" y="0"/>
                </a:moveTo>
                <a:cubicBezTo>
                  <a:pt x="309" y="180"/>
                  <a:pt x="1469" y="854"/>
                  <a:pt x="1856" y="1079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3048120" y="3733920"/>
            <a:ext cx="2361960" cy="990360"/>
          </a:xfrm>
          <a:custGeom>
            <a:avLst/>
            <a:gdLst/>
            <a:ahLst/>
            <a:rect l="l" t="t" r="r" b="b"/>
            <a:pathLst>
              <a:path w="1907" h="536">
                <a:moveTo>
                  <a:pt x="0" y="0"/>
                </a:moveTo>
                <a:lnTo>
                  <a:pt x="1907" y="536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8"/>
          <p:cNvSpPr/>
          <p:nvPr/>
        </p:nvSpPr>
        <p:spPr>
          <a:xfrm flipV="1">
            <a:off x="2590920" y="2819520"/>
            <a:ext cx="2743200" cy="2209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9"/>
          <p:cNvSpPr/>
          <p:nvPr/>
        </p:nvSpPr>
        <p:spPr>
          <a:xfrm flipV="1">
            <a:off x="2666880" y="4876560"/>
            <a:ext cx="2719440" cy="228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380880" y="1557360"/>
            <a:ext cx="386424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ood floats, because..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hips float higher in </a:t>
            </a:r>
            <a:br>
              <a:rPr sz="2400"/>
            </a:b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e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water, becaus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eel does not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loat, becaus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5219640" y="1557360"/>
            <a:ext cx="361944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... it is less dense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than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... it is more dense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than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... it has a density of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less than 1 g/cm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... it has a density of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more than 1 g/cm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" dur="1" fill="hold"/>
                                  <p:tgtEl>
                                    <p:spTgt spid="5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8532720" y="3357720"/>
            <a:ext cx="611280" cy="3166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eith Johnson (c)   www.timetabler.com</dc:creator>
  <dc:description>Show Full Screen, via &lt;F5&gt;, or right-click with mouse.</dc:description>
  <cp:keywords>GCSE Physics  (c) Keith and Ann Johnson</cp:keywords>
  <dc:language>en-US</dc:language>
  <cp:lastModifiedBy>Keith Johnson</cp:lastModifiedBy>
  <dcterms:modified xsi:type="dcterms:W3CDTF">2017-03-26T19:11:24Z</dcterms:modified>
  <cp:revision>30</cp:revision>
  <dc:subject>Physics for You Support File</dc:subject>
  <dc:title>Physics for You</dc:title>
</cp:coreProperties>
</file>